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9DA8-AEA5-4BF4-85D5-81BDA119D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 to the website to go over thi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ew slides 18 through 21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roject (slide 18)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a new project from scratch (slides 19-2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specialized team IDs (slide 2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ping helps students represent their understanding as they investigate the nature of a problem that requires thinking about cause and effec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example investigates how hurricanes affect people, land, and business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usal map takes on the visual elements of concept maps, but places explicit meaning on each element in the map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nks between the factors depict causal relationships, showing an increase or decrease in the intensity of the effect by the thickness and color of the connecting lin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is very important to causal mapping because it means students can interpret the map due to its visual struct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d some of the factors on the ma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2042-22BA-478C-8127-6644DE58C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E530-0201-40AC-AB4C-A85B4D6C8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649A-986C-42F9-9D04-D97415B44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E950-A1CE-4186-B5B0-39AE88170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FA7A-5859-4592-8D8F-618BDB1D4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57EA-0E09-414E-90BB-5F366AA3B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68BF-DB69-4768-A67D-6E5A09811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BADF-9995-4997-BBA8-9DF2B1497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5EB3-5800-4C88-B6FA-6AA7D6A71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8C5C-4C61-460C-B8B3-45CD9182C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FED3-B2F7-4BD3-97AE-683602786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4A55-845B-4565-B1B0-035170437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40E0-490E-47F0-BCFB-13A565E40BB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hyperlink" Target="http://www.intel.com/education/au/seeingreason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eeingreaso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nderstanding Cause and Eff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07–7.0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ause explain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y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omething happe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effect describ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ha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happe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cause of X, Y happe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X affects 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X results in 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A8D2-465F-465E-BB76-2A427B6A6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Helping Students Understand Causa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lationships Using the Seeing Reason Tool –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9–7.1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the Traffic Jam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ice the sizes and colors of arrow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relationships between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Comments box and 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having students create a practice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the Benefits of the Seeing Reason Tool –</a:t>
            </a:r>
            <a:br>
              <a:rPr sz="1400"/>
            </a:b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benefits for stud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benefits for teach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16C7-420A-4D4B-8188-D1BD91EC58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800"/>
            </a:br>
            <a:br>
              <a:rPr sz="8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Power of the Seeing Reason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ool –</a:t>
            </a:r>
            <a:br>
              <a:rPr sz="14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4–7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the types of thinking, classified by Costa and Kallick’s Habits of Mind, that can be targeted with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 studen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st fact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how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vestigate and rev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sent find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B4FE-4C26-4519-B717-FB2869314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derstanding What Makes a Good Project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1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derstand that a good projec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mplex, connected to real-world problem solv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as a meaningful research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influenced by factors that can be measured, observed, or verifi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interdisciplinar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41CF-4272-4F13-AB26-D3D7AA843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800"/>
            </a:br>
            <a:r>
              <a:rPr b="1" lang="en-US" sz="8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8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 two or three project examp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how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s used in each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te your thoughts and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itional project examples in Appendix C.03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can a project that uses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 to develop students’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Thinking About Your Uni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rainstorm ideas for effective uses of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CFFE-9589-4217-B924-9F639EA191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eeing Reas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37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19 – 7.2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/syllabus outcome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AA27-24A9-4E40-96D0-8D8FC3674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Viewing Sample Project Descriptions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search Question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0 – 7.2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examples for how to write your ow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HelveticaNeue-Light"/>
              </a:rPr>
              <a:t>For more examples, see ideas starting on Appendix C.03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0880" y="329760"/>
            <a:ext cx="823752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eeing Reas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D9CD-1A2A-4D4F-813D-65FDCAB737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Idea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– Module 7.24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74760" y="1676520"/>
            <a:ext cx="8540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hare your ideas for a project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corporating th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Seeing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Reas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E991-D955-4548-BDA4-2F6480C5F5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reating a Seeing Reason project from an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Existing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project wizard to copy an existing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Curriculum Framing Questions, project priorities, and the Project Reflection Checklist, and then edit the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py the details into your Unit Pla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e steps 2 through 4 to create a ne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(see next three slid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AE1B-75C6-4DAE-9B9E-A5E07186F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Your Own Project Description and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 Research Question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7.26–7.2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Unit Plan and review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prior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eflection Checklis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raft the Project Description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d Research Question</a:t>
            </a:r>
            <a:r>
              <a:rPr b="1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your map or type them directly into your Unit Plan Templ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 th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Resour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lder from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6DD9-02B2-4C34-B03B-04EFDB7C0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914400"/>
          <a:ext cx="8237520" cy="4457880"/>
        </p:xfrm>
        <a:graphic>
          <a:graphicData uri="http://schemas.openxmlformats.org/drawingml/2006/table">
            <a:tbl>
              <a:tblPr/>
              <a:tblGrid>
                <a:gridCol w="1600200"/>
                <a:gridCol w="663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ry out a project idea using th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, share, and reflect on a practice ran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3920" indent="-222480">
                        <a:spcBef>
                          <a:spcPts val="700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your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isual Ranking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exper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69800" y="5562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40A4-6573-4DAC-AC5C-EFF3F86B7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Planning Your Use of Seeing Reas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2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the Unit Plan Templ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o the Seeing Reason se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Ques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ve your f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6FD1-C8B5-4958-8B27-14DD6F36AC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Creating a New Seeing Reason Projec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2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g in to your Teacher Worksp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new Seeing Reason project and complete the following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Nam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Questio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19BA-7312-4EA5-A0BD-69525B4FA2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Teams IDs with the Project Wizard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3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project wizard to create team I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eam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Creating Specialized Student Teams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3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Team IDs individ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ip: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rite down your team IDs and password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CE4B-860B-46BB-890E-7432A8EEBF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Seeing Reason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View resources and articles on using Seeing Reason and understanding cause and effect from www.tmd.com.au/education/thinking/resour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seeingreason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Seeing Reason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1AA0-BB5C-4126-9692-0CEC16F609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odule 7 </a:t>
            </a:r>
            <a:br>
              <a:rPr sz="2600"/>
            </a:br>
            <a:br>
              <a:rPr sz="9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ummary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7.33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5760" y="1886040"/>
          <a:ext cx="8237520" cy="266544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7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 Tool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s useful to investigate multiple influences (factors) that impact other outcomes in a syste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factors and relationships in a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map should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asur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serv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Verifi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E0A8-16F0-4ADD-A0C3-757258C7F3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942840"/>
            <a:ext cx="823752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8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for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practi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usal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nd practice effective questioning techniqu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and receive feedback on project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m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your Unit Pl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e your experience us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9568-D7F1-4C43-A920-AC50BCC99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86B6-3201-4776-BD44-1435496AD4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7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Seeing Reason Tool to Target Thinking Skill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a unit that integrates the use of the </a:t>
            </a: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resent causal relationships visual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of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and discuss ideas for incorporating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o your uni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ject onlin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2043-8E43-4549-8927-1EEF80DC37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990720"/>
          <a:ext cx="8237520" cy="321624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6DD-0162-4A4C-803D-EFCD89115F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7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eeing Reason Tool to Target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760" y="1828440"/>
            <a:ext cx="47624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in depth that integrates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cause and effect and how to represent causal relationships vis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o uni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441440"/>
            <a:ext cx="403380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5273-18AE-444B-82E0-89A9009F6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eeing Reason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aking a Look at Your Seeing Reason Map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 the Teacher Workspace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your most recent ma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ps in your Portfolio to see how your team’s thoughts have progress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id your maps chang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r maps show progression in think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d this cycle of revisiting the maps increase deeper understanding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you see this tool being beneficial in the classroo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518-2E30-486D-AB65-C9EE66970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eeing Reason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0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xamining a Unit that Uses Seeing Reason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.02–7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ore the Ecology Explorers unit in Appendix F.01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how the unit deals with a complex system or cause-and-effect relationshi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maps in this unit at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eeingreaso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cology Explorer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41BC-149E-4CA7-8508-1D94110F71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Causal Map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7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ps help students to visually represent specific measurable or verifiable factors that influence or impact a problem or syste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ausal map takes on the visual elements of a concept map, but places explicit meaning on each element of the map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BFD2-F0B4-4F94-A333-36E354ADD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116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Understanding Causa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Maps</a:t>
            </a: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continued) – Module 7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usal maps have one specific purpose—to visually depict measurable or verifiable factors that </a:t>
            </a:r>
            <a:r>
              <a:rPr b="0" lang="en-US" sz="1600" spc="-1" strike="noStrike">
                <a:solidFill>
                  <a:srgbClr val="a6cae1"/>
                </a:solidFill>
                <a:latin typeface="Verdana"/>
              </a:rPr>
              <a:t>influ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</a:t>
            </a:r>
            <a:r>
              <a:rPr b="0" lang="en-US" sz="1600" spc="-1" strike="noStrike">
                <a:solidFill>
                  <a:srgbClr val="a6cae1"/>
                </a:solidFill>
                <a:latin typeface="Verdana"/>
              </a:rPr>
              <a:t> impa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 or syste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do hurricanes affect people, land, and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usinesses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Cause and Effect</a:t>
            </a:r>
            <a:br>
              <a:rPr sz="2400"/>
            </a:br>
            <a:br>
              <a:rPr sz="16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24480" y="2008080"/>
            <a:ext cx="449568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A7F9-0CAE-49C9-AAAC-D79F2EF1DA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13Z</dcterms:modified>
  <cp:revision>152</cp:revision>
  <dc:subject/>
  <dc:title>Presentation Title Goes Here</dc:title>
</cp:coreProperties>
</file>